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AADC-F57C-4CDF-ACD0-21F7A6D89B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body temperature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is is usually higher tha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,you are 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owerpoint is hosted on www.worldofteaching.c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contr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hot,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mak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co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cold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make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shiver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us heat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                     Diet and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makes up a healthy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too much can causes he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causes anorexi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alcohol consumption can a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t and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many alcohol units are containe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drin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how many alcohol units are in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 of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information on alcohol in graph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should contain the following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foods that are quite high in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good for storing energy during win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is nee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many fat based foods can make peop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also cause cholesterol in the vei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tarch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like bre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toes and past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a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energ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lories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m can be burned of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 they appear as fat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used for the growth and repair of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iss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 deficiency can result in malnutr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supplies or alternatives give us 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y of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onsist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, B ,C ,D E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se pla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arts i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of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icture shown is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bones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ith ricke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ccurs through lac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tamin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alts that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ed by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calciu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milk for bon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 and oth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conta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d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fatty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ch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es help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bility to maintain body temperatu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to save a person suffering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burn up the food we 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us energy for our muscles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our muscles work,the more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od we n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more food than we need,the extra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ed into f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ing fat is unhealthy and affects our he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mo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eats more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ould you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ct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er?Expl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ould it be b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erson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uld they do to lo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nergy K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a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serious eating disorder which main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s young gir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bulimia,another eating dis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cs believe they need to lose weight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ally diet to do 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psychological problem and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 can lead to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ffects of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a dr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ffects your brain by bloc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sages to your sen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slows down your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measured in un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unit of alcohol consists of  a) a smal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s of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problems at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od chang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ney trou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affect personal safe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death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name 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regular exercise improves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be described as having staying po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 which you need to have stami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swimming ,jogging , rowing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and lungs need to be in good wor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very rate is usually quick from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scles need to be strong and in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clude  weight lifting, row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and gymna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e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dy can be capable of being moved in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ositions without being sti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stretching exercises are neede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 this aspect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needing suppleness include danc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mnastics, judo, swimming and yog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 Blooded Animals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lizard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not make enoug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rom their f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nable them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er than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i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end to be more active during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ropical fish from the Amazon woul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urvive in Scot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at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n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where the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warm blooded animal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constant temperature of 37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are able to make and lose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lose excess heat by sweating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r body temperature goes above 37 C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you are suffering from a 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tend to sweat a lot as the body tries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your temperatur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creases in temperature are caused b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appens when the body falls below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rtain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ody is too low in temperature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long, it can result in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mostly occurs with elder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are signs of hypothermia and actions to be 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urring of spee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ly ina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becom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to rea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usual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 in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n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a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et drink bu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,4,5 Increase ro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eating slow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21F-C911-42DB-8AA2-2CB9A78C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1D5-62FD-4493-BE7B-4D834D0E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3D7-24C2-440D-A043-01545E1A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2219-8001-4B29-B6CF-FA12A5B6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1D0A-4C3C-4BCD-9A87-A1E4496D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2E7E-8D7A-458D-B06E-515011B9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82D6-7445-47F0-8147-5C167452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97D5-DAF8-4431-B846-C42FCB5E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483E-C01D-4A2B-AC6A-224252D0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500E-8AA0-4BEB-A1BA-9A1D8D52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A2E1-73F5-4A6F-B9AD-2527F807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13A2-3219-4CD2-8B13-5239033C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8F1D-5623-44F0-BB24-32C57863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A3FD-6DF5-43AC-9394-3CC5CE9B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7FCE-7554-46FC-920D-D81A1CB6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712A-C112-4D6A-9747-FAC8D91E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617A-EF9E-494B-883A-8C3D1881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9C7-7E9C-4B87-A57E-B7688F55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9E9-FDCE-439C-B01E-C7C75E6C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755F-C845-43F5-AC94-F6E01707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5E87-DAFA-4248-B475-725E154F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07F-BEBD-490B-8C7B-6FE53FB6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0D4-5715-4999-906C-6AEF85E5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25B-9158-4A58-9BF4-019E7D89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1029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34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035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036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037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042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043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1045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1046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1047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2C4E-0FAD-4FF4-8CFD-DB0F1BD853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C661-7D5B-442E-9D29-6E221321DB4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802720" cy="39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2400"/>
            </a:b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465948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802720" cy="38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4800600" y="2552760"/>
            <a:ext cx="3886200" cy="3471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 flipH="1">
            <a:off x="5181120" y="2743200"/>
            <a:ext cx="160020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5943600" y="4191120"/>
            <a:ext cx="15238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5562720" y="4952880"/>
            <a:ext cx="22860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8534520" y="2743200"/>
            <a:ext cx="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7984080" y="22510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6615360" y="301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6615360" y="362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669132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6615360" y="491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Line 26"/>
          <p:cNvSpPr/>
          <p:nvPr/>
        </p:nvSpPr>
        <p:spPr>
          <a:xfrm flipV="1">
            <a:off x="8534520" y="5181120"/>
            <a:ext cx="30456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66720" y="2057040"/>
            <a:ext cx="4876920" cy="42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Line 29"/>
          <p:cNvSpPr/>
          <p:nvPr/>
        </p:nvSpPr>
        <p:spPr>
          <a:xfrm flipH="1" flipV="1">
            <a:off x="8152920" y="5181120"/>
            <a:ext cx="38124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7832520" y="57564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Line 32"/>
          <p:cNvSpPr/>
          <p:nvPr/>
        </p:nvSpPr>
        <p:spPr>
          <a:xfrm>
            <a:off x="5257800" y="5486400"/>
            <a:ext cx="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Line 33"/>
          <p:cNvSpPr/>
          <p:nvPr/>
        </p:nvSpPr>
        <p:spPr>
          <a:xfrm>
            <a:off x="6781680" y="2743200"/>
            <a:ext cx="121932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Line 35"/>
          <p:cNvSpPr/>
          <p:nvPr/>
        </p:nvSpPr>
        <p:spPr>
          <a:xfrm>
            <a:off x="6400800" y="3429000"/>
            <a:ext cx="6858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Line 36"/>
          <p:cNvSpPr/>
          <p:nvPr/>
        </p:nvSpPr>
        <p:spPr>
          <a:xfrm>
            <a:off x="5181480" y="5486400"/>
            <a:ext cx="289584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72160" y="2209680"/>
            <a:ext cx="437184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6172200" y="2819520"/>
            <a:ext cx="0" cy="2895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6172200" y="5715000"/>
            <a:ext cx="2438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 flipV="1">
            <a:off x="640080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6400800" y="3352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670572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6934320" y="3123720"/>
            <a:ext cx="0" cy="2590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6934320" y="3124080"/>
            <a:ext cx="3045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7238880" y="3124080"/>
            <a:ext cx="0" cy="2514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7238880" y="5562720"/>
            <a:ext cx="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Line 23"/>
          <p:cNvSpPr/>
          <p:nvPr/>
        </p:nvSpPr>
        <p:spPr>
          <a:xfrm flipV="1">
            <a:off x="746748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7467480" y="39625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777240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Line 26"/>
          <p:cNvSpPr/>
          <p:nvPr/>
        </p:nvSpPr>
        <p:spPr>
          <a:xfrm flipV="1">
            <a:off x="800100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8001000" y="35053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830592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Text Box 33"/>
          <p:cNvSpPr/>
          <p:nvPr/>
        </p:nvSpPr>
        <p:spPr>
          <a:xfrm>
            <a:off x="6233760" y="5680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34"/>
          <p:cNvSpPr/>
          <p:nvPr/>
        </p:nvSpPr>
        <p:spPr>
          <a:xfrm>
            <a:off x="7452000" y="5680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Line 36"/>
          <p:cNvSpPr/>
          <p:nvPr/>
        </p:nvSpPr>
        <p:spPr>
          <a:xfrm flipH="1">
            <a:off x="6019560" y="31240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37"/>
          <p:cNvSpPr/>
          <p:nvPr/>
        </p:nvSpPr>
        <p:spPr>
          <a:xfrm flipH="1">
            <a:off x="6019560" y="44197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Line 38"/>
          <p:cNvSpPr/>
          <p:nvPr/>
        </p:nvSpPr>
        <p:spPr>
          <a:xfrm flipH="1">
            <a:off x="6019560" y="51055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Line 39"/>
          <p:cNvSpPr/>
          <p:nvPr/>
        </p:nvSpPr>
        <p:spPr>
          <a:xfrm flipH="1">
            <a:off x="6019560" y="38098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40"/>
          <p:cNvSpPr/>
          <p:nvPr/>
        </p:nvSpPr>
        <p:spPr>
          <a:xfrm>
            <a:off x="5015160" y="28605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5091120" y="35463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5091120" y="41562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167440" y="484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Line 46"/>
          <p:cNvSpPr/>
          <p:nvPr/>
        </p:nvSpPr>
        <p:spPr>
          <a:xfrm flipH="1">
            <a:off x="6934320" y="32767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Line 47"/>
          <p:cNvSpPr/>
          <p:nvPr/>
        </p:nvSpPr>
        <p:spPr>
          <a:xfrm>
            <a:off x="6934320" y="35812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Line 48"/>
          <p:cNvSpPr/>
          <p:nvPr/>
        </p:nvSpPr>
        <p:spPr>
          <a:xfrm flipH="1">
            <a:off x="6934320" y="37339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Line 49"/>
          <p:cNvSpPr/>
          <p:nvPr/>
        </p:nvSpPr>
        <p:spPr>
          <a:xfrm>
            <a:off x="6934320" y="40384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Line 50"/>
          <p:cNvSpPr/>
          <p:nvPr/>
        </p:nvSpPr>
        <p:spPr>
          <a:xfrm flipH="1">
            <a:off x="6933960" y="42670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Line 51"/>
          <p:cNvSpPr/>
          <p:nvPr/>
        </p:nvSpPr>
        <p:spPr>
          <a:xfrm>
            <a:off x="6934320" y="44956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Line 55"/>
          <p:cNvSpPr/>
          <p:nvPr/>
        </p:nvSpPr>
        <p:spPr>
          <a:xfrm flipH="1">
            <a:off x="6934320" y="46483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6934320" y="48769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Line 57"/>
          <p:cNvSpPr/>
          <p:nvPr/>
        </p:nvSpPr>
        <p:spPr>
          <a:xfrm flipH="1">
            <a:off x="6934320" y="5181480"/>
            <a:ext cx="304560" cy="1526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58"/>
          <p:cNvSpPr/>
          <p:nvPr/>
        </p:nvSpPr>
        <p:spPr>
          <a:xfrm>
            <a:off x="6934320" y="53341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Line 59"/>
          <p:cNvSpPr/>
          <p:nvPr/>
        </p:nvSpPr>
        <p:spPr>
          <a:xfrm>
            <a:off x="8001000" y="365760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Line 60"/>
          <p:cNvSpPr/>
          <p:nvPr/>
        </p:nvSpPr>
        <p:spPr>
          <a:xfrm flipH="1">
            <a:off x="8000640" y="388620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61"/>
          <p:cNvSpPr/>
          <p:nvPr/>
        </p:nvSpPr>
        <p:spPr>
          <a:xfrm>
            <a:off x="8001000" y="4191120"/>
            <a:ext cx="30492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Line 63"/>
          <p:cNvSpPr/>
          <p:nvPr/>
        </p:nvSpPr>
        <p:spPr>
          <a:xfrm flipH="1">
            <a:off x="8000640" y="44956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Line 64"/>
          <p:cNvSpPr/>
          <p:nvPr/>
        </p:nvSpPr>
        <p:spPr>
          <a:xfrm>
            <a:off x="8001000" y="47242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Line 65"/>
          <p:cNvSpPr/>
          <p:nvPr/>
        </p:nvSpPr>
        <p:spPr>
          <a:xfrm flipH="1">
            <a:off x="8000640" y="49528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Line 66"/>
          <p:cNvSpPr/>
          <p:nvPr/>
        </p:nvSpPr>
        <p:spPr>
          <a:xfrm>
            <a:off x="8001000" y="518148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Text Box 68"/>
          <p:cNvSpPr/>
          <p:nvPr/>
        </p:nvSpPr>
        <p:spPr>
          <a:xfrm>
            <a:off x="5242320" y="62136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Rectangle 69"/>
          <p:cNvSpPr/>
          <p:nvPr/>
        </p:nvSpPr>
        <p:spPr>
          <a:xfrm>
            <a:off x="6858000" y="6324480"/>
            <a:ext cx="228600" cy="3049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70"/>
          <p:cNvSpPr/>
          <p:nvPr/>
        </p:nvSpPr>
        <p:spPr>
          <a:xfrm>
            <a:off x="6858000" y="63244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Line 71"/>
          <p:cNvSpPr/>
          <p:nvPr/>
        </p:nvSpPr>
        <p:spPr>
          <a:xfrm flipH="1">
            <a:off x="6857640" y="6324480"/>
            <a:ext cx="1522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72"/>
          <p:cNvSpPr/>
          <p:nvPr/>
        </p:nvSpPr>
        <p:spPr>
          <a:xfrm>
            <a:off x="7224120" y="62136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Rectangle 74"/>
          <p:cNvSpPr/>
          <p:nvPr/>
        </p:nvSpPr>
        <p:spPr>
          <a:xfrm>
            <a:off x="8915400" y="6248520"/>
            <a:ext cx="228600" cy="380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5T14:30:48Z</dcterms:created>
  <dc:creator>Catherine</dc:creator>
  <dc:description>Cold  Blooded Animals 1.</dc:description>
  <cp:keywords>Cold  Blooded Animals 1.</cp:keywords>
  <dc:language>en-US</dc:language>
  <cp:lastModifiedBy>LEGION2</cp:lastModifiedBy>
  <dcterms:modified xsi:type="dcterms:W3CDTF">2016-01-14T09:35:29Z</dcterms:modified>
  <cp:revision>22</cp:revision>
  <dc:subject>Cold  Blooded Animals 1.</dc:subject>
  <dc:title>Cold  Blooded Animals 1.</dc:title>
</cp:coreProperties>
</file>